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CDC-ACDC-41AE-A876-50486CF60849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41F-36CE-48E1-B108-EBE4CC9C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C51-95A2-427C-ACC3-08735BEA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F77-9ADC-4F3F-930C-F9B843F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60C-643F-4A4F-BD44-B41E6E57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055-92B8-48E1-9F86-BBD9EED8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81C-3B33-4A21-A25C-ADA5BD7A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CEE7-F4F8-4876-A06F-BBDBE15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B5E8-F1C9-41DC-9CC6-F6C16F3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D41-94A6-4BBD-86D2-813C254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2CA8-0844-4568-BA4B-1B7F679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5BF-9A8E-49F3-BD3A-6DA6C91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24C9-841B-4A75-9634-459F9D2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A9A-8F4F-4F17-9707-DD7444C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9CE-184E-44AB-8C5F-1681B90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31B-D0E2-423D-B073-B477910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0EF9-2BEB-463F-A224-01DC558D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6398-9D69-4AEB-90C7-4EACF2F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EF8F-4D0F-43A1-BA41-A65E9DA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02D3-1751-408F-940F-AC0B6997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0DBB-1861-40F8-B656-22D1A7E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3733-9B7C-4013-B980-2CAA60E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E040-2A72-4699-93F0-E79613E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6708-ECF1-4152-86CC-A597879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C53-0A45-406C-A345-9D0E2AD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6936-3BF4-45C2-9E1B-2C72FF6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618D-0158-4DB8-A9FB-E32557D3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8B75-5949-4C93-97FD-F028E5E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5A35-307A-4E14-8615-B6C9477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C4AB-DDC4-45F0-B2F0-FA70B91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4920-4C6C-4122-B439-E2506C72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3E70-9708-452D-A54D-99B97F60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BF2F4-5548-463C-BF5D-3DEFF3D1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F8E5-5C8D-47DF-A956-91F7EA3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87EB-EE13-4D8A-94CD-3D12D50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FEC-6A92-4DC2-BEAB-05B233A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DC70-DC6D-4EAE-BEE8-3B2AE3FB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91B4-9D1B-45EF-A748-8ADFB14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6112-7BEA-4285-9049-2C1507A1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886A-117C-45C5-BF71-6877416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2E3E-C118-48A4-8126-97D6741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CDBB-30E5-450D-840C-D75B054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0203-627D-4C37-81AD-9B3794A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D942-F57F-4247-BA7F-121D0AB6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34A6-2EE5-4CF2-8D03-23C99902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55E-F5D1-4EF9-A8F1-2ADC2CFF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D72-88D5-4ECD-8B3A-C232D584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661-03BC-40EF-A952-566AA9C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C9D-23EA-4214-8CAA-F23AE78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E6B-0BBC-4255-93F2-E594DA1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9A0B-2E30-49FA-96AB-5714E923A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779B-C251-455C-97B3-608D5363E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B968-83ED-44FA-A59C-B13B0FF79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2902-0318-4C41-82A7-9D3A031E9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9"/>
          <p:cNvSpPr/>
          <p:nvPr/>
        </p:nvSpPr>
        <p:spPr>
          <a:xfrm>
            <a:off x="357120" y="1214280"/>
            <a:ext cx="83581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ста и развоја, школска хигијена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игијена и ек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ванаеста недеља наста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3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213840"/>
            <a:ext cx="84247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1" lang="sr-Latn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ексуалних функ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0" lang="sr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обољевањ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280" y="714240"/>
            <a:ext cx="820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зраженији је поремећај паж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04920" y="785880"/>
            <a:ext cx="8610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нтензивниј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б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4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отеж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метријс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раста и разво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62626"/>
                </a:solidFill>
                <a:latin typeface="Times New Roman"/>
              </a:rPr>
              <a:t>Поремећаји 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523880"/>
            <a:ext cx="8074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ог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астат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ге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тск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словље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болест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схране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хронич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ендокри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i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,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епов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социј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сихоемоцион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стату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низ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ремећај статуралног раста у виду намизма или тзв. патуљасти раст, представља одступање од нормалног за 15-2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нзивни неуроендокрини преображај, уз инсуфицијенцију хипофизе, представљају основу овог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 треба упутити код ендокринолога да би се утврдили детаљни дијагностички поступци и отклонили могуди узроц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омладина чине око 20% укупног становниш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96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428760"/>
            <a:ext cx="8763120" cy="62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Џиновски рас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ећи статурални раст до 20% од нормалне висине означава појаву тзв. џиновског ра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је праћена и одговарајућим психичким поремећајима, пре свега, инфантилиз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шавос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препубертетском периоду може се јавити поремећај пондералног развоја као последица интензивних преображаја, пролазног је каракт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ледње време код деце могу бити присутни тежи поремећаји пондералног развоја, изражени кроз анорексију и булим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анорексије и булимије су многоструки, али су углавном психичке и биолошке приро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понде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ост. - Промена у пондералном расту може да буде праћена и одступањем од телесне тежине и појавом гојазности. Узроци гојазности су многоброј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треба имати у виду генетску предиспозицију, али и друге психосоцијалне чиниоце који доводе до могућег „бега” у хр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зивни развојни поремећа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ом функционис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ј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sperge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к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с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ег 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пк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лј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т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јир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улзив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ликост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њ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ли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купље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чк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агрес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и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актив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епрес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сихот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isperid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Rett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шај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икроцефал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порав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нталн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тар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р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блем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изациј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ак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пилепс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70%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лел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sr-Latn-C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Heller-ov sindr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ор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нађе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 који се ретко јавља.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ичност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е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ад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тиз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су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ђе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и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3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4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ив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</a:t>
            </a:r>
            <a:r>
              <a:rPr b="0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286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тешкоћа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о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ракци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граниче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ашање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а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ектр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нема</a:t>
            </a:r>
            <a:r>
              <a:rPr b="1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гнитивн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би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 Hansu Aspergeru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1944.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ди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иса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лн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лигенц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достај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вербал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изичк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ила неспрет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азивала 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мпат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к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иц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ј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шк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оц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и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јам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ск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авањ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адн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рс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чких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школског узраста често болују од акутних и хроничних заразних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ници заразних болести се шире различитим путеви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здух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дричним пу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гађеном хра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сектима који преносе узрочн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ректним контактом са болесном осо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метима болесне осо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млади представљају најрањивију категорију становништва, али истовремено дине и највећи биолошки потенцијал дру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од 7. до 14. годи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 од 15. до 18. годи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 од 19. до 25.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актериј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ptokokne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tu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280" y="1142640"/>
            <a:ext cx="57610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d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vida(hipermetropija, miopija, astigmatizam, strabizam, daltoniz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0" y="1214280"/>
            <a:ext cx="41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oljenja 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 anomalije genitalnog apa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ske bole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leps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076720" y="1989000"/>
            <a:ext cx="385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ih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l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pat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 до школе не треба да пешаче дуже од 2k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егавати просторе са много брда и јаким ветрови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суседних зграда мора да буде најмање до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3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162864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, суво, оцедн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не воде највиш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ш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повезивања на централни водовод и канализациј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товати простор тако да по ученику буде најмање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да око школског земљишта од ниског дрвећ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6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11280" y="692280"/>
            <a:ext cx="7921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4560" y="115560"/>
            <a:ext cx="91090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a згр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ски тип градњ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не стране ходници са друге учионице или са две стране учиониц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ници 2,5 до 4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а оријентација учионица у нашим условима југ-југоисток, ходника и санитарних просторија север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6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скултурна с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учионица била функционална неопходно је да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ученичких места не буде већи од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нзије буд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x7x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н простора је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учен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дуж леве стране уче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боје слонове кости (није пожељно вешати слике и графиконе због прашин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фон беле бо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: паркет/ линолеу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акустичном, топлотном  изолац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је када један ученик седи у једној клупи, а између клупа је размак 10c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за квалификаци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висин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е треба да износи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% ТВ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дубина седишт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</a:t>
            </a: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или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/3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ивице стола и предње ивице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одмакнуто од ст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стај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подвучено под ст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писања, чит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вертикала повучена са ивице стола пада тачно на ивицу столиц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растојање између предње ивице стола и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неодговарајуће диференце постоји могућност настанка деформитета кичменог стуба и замора мишића услед неправилног положаја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1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школ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је нова заједница којој дете треба да се прилагоди, да промени свој дотадашњи надин живота, да сазна нешто ново, да се оформи као личност која ће касније испуњавати животне и професионалне обавез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школ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је обезбедити стабилно окружење за правилан психофизички и социјални разво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а 90cm од пода, а 2m од првих клупа, 1,5m од катедре наставник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би било да је бела на којој се пише црном кредом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(већих димензија) или покретна (мањих димензија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Њ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640" y="175896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7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освет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268280"/>
            <a:ext cx="813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упадно светло од дневне светлости Сунца и светло одбијено од зидова суседних зграда и површина у учио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и угао или угао неба треб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такав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ваки ученик види бар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би требало да су од брушеног чистог стак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љави прозори смањују осветље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Rectangle 4" descr=""/>
          <p:cNvPicPr/>
          <p:nvPr/>
        </p:nvPicPr>
        <p:blipFill>
          <a:blip r:embed="rId1"/>
          <a:stretch/>
        </p:blipFill>
        <p:spPr>
          <a:xfrm>
            <a:off x="487440" y="66600"/>
            <a:ext cx="8192880" cy="588960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11280" y="692280"/>
            <a:ext cx="792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640" y="856800"/>
            <a:ext cx="81360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светљењ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директно одозго на доле. Није подесно за учионице, јер ствара оштр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олу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удиректно)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чији се део простире директно према доле, а део према плафону. Погодно је за читање и писање, јер даје мек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средно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према плафону. Погодно је за читање и писање, јер не даје сенк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9000"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дну (способнос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, њихо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ржљивост, процес терморегулације и поја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ора м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ти о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ни микроклиматски у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, темп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ур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, кретање ваздуха топлотно зрач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микр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 треба да пре свег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огуће нормалне терморегулационе процесе у организмима деце и младих, као и друге актив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712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м (вентилацијом) просторије уклањују се сув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лага, топлота или аерозаг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 може бити природна и вештач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а да трај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месеци, с обзиром на наше климатск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. С обзиром да се у просторији најпре загревају зидови, собна температура највише зависи од квалитета зидова и величине простор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ционалнији начин грејања јест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ре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аздуха у 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и треба да се из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 око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битних елемената за 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ње и унапређење здравља 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јесте добра снабдевеност хигијенски исправном водом за пиће. Ако је вода неисправна, може доћи до цревних зараз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 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бити преко централн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лног водо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у и хемијску исправност воде треба редоврио контролис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 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треба да буду прописно саграђени и да испуњавају хигијенске нор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санитарни објекти у школ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а да буду с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 на крају ходника или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м дел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, даље од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а, са претпростором за прање ру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 је стандардни објекат савремен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, посебно осн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у треба да чине чајна кухиња и трпезарија. Треба да буду смештене у приземљу згр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је у нашој средини организована на два н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- као школски допунски оброк (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 да коригује и допуни постојећу поро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схрану и да надокнади енергетски расход настао током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ских активнос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о исхрана у продуженом или целодневном борав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еви школске хигиј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школовања може доћи до маладаптације, поремећаја сна, појаве умора, губитка апетита, агресивности, болова у трбуху. Нису ретки и рани емоционални поремећаји изазвани привременим губитком осећања сигурности и повластица које је пружала породиц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је један од основних циљева Школске хигијене помоћ у адаптацији детета на услове школск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 у шк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сто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ст свих нутр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ирана и добро организована колективна исхрана може да допринесе, правилном пс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зидком развоју детета Так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може да буде значајан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лац у превенцији обољења и стања, која се јављају као последица неадекватне исхр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кa актив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физичке активности јесте правилан психофиз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раз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изањ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тималне кондиције и подизање одбранбен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ма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се по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превенција обоље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функција физичког васпитања усмерена је првенствено на развој моторичких способности и навика, али се истовремено, поред постизања снаге, из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ости, остварују и друге функције организма.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раст и развој, у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а правилно 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тела и спр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 настанак постуралних поре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а и деформит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л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лагође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ољ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S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6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ерен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ре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3 x 2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 може бити отвореног и затвореног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ао отворени простор за в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ње користи школско двориш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у култу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пходно je да физичка активност деце буд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инуирана, током целе године, в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је да сва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а има и салу за физичку културу. Сала треба да буде у приземљу или у посебном крилу згра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18864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 9 сати, а касније од 8 са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и то тако да после сваког часа буде одмор од 10 мин, осим после 3 часа када одмор треба да траје 30 мин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е распоредити тако да на почетку наставе буду средње тешки предмети, потом тешки, а на крају лаки предме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2000"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642960"/>
            <a:ext cx="81360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наставе штетни по здравље ученика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а преоптерећенос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редовне физичке развијености ученика и захтева рада у шко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интелектуалног узраста ученика и метерије која се преда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ед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јских и билошк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ављају се и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  други  чиниоци 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 нарушавајући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,  идентификација  и  квантификациј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 и биолошких фактора у радној средини и њихова евалуациј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других фактор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 рада и радне средине који делују на организам као стесор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ње  мера  за  побољшавање  услов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  и смањивање ризика од настанка професионалних обољења и повреда на раду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  и   предлагање   мера   за   обезбеђење физиолошких услова рад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радног процеса  уз прилагођавање   техничких   система   и   технолог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физич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биолош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ми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микроорганизми или њихови фрагменти могу изазвати професионална обољења или обољења везана за р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домаћина, биолошки агенси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довести до инфекције и обоље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тунистички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изазвати инфекцију и обољење само када је смањена отпорност домаћ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Изазивају  само  колонизацију  која  не штети домаћи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хемијс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које  унете  у  организам  у малим   количинама   изазивају   хем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 може да доведе до њихове међусобне интеракције, овде се првенствено мисли на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у физичких, хемијских и биолошких фактор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мално дозвољене дозе и концентрације (мд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Д и МДК су концентрације и дозе којима по досадашњим сазнањима, радници могу бити изложен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ати днев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ана недељ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ком радног века, а да им здравље не буде угроже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авезујућ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оруке-С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ост материје највише зависи од концентрације и времена експозиције. У вези с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разликује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оне отрове </a:t>
            </a:r>
            <a:r>
              <a:rPr b="0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 отровност зависи претежно од концентрациј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о-концентрационе отров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ја отровност зависи од времена експози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ј етапи се води рачуна о заштити животне и радне средин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у заштите на ра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раде могу да се граде по праволинијском и блок систему, да буду приземне или на сп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ки круг и саобраћајнице у њему треба да обезбед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 одвијање саобраћаја и кретање пеш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жељно је да постој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 површин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мор и рекреацију рад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лним грађевинским објектима мора се обезбедити водоводна мрежа за воду за пиће и за санитарне  потребе.  Ова  мрежа  се  прикључује  на градски водовод или на сопствени локални изво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а водом за пић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решење је да се вода за пиће узима помоћу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их   славин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 супротном  сваки  радник  би  морао  имати  своју посу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не смеју да буду удаљене од радног места више од 100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славину користи највише 60 радник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отпадних материј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с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вине из круга предузећа могу се испуштати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дску  канализациону  мрежу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 техничке вод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 оп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е, агресивне, масне или  лако  запаљиве материје одводе се  посебнима канализацио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режам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авање и неутрализацију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ебну септичку ја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, гладак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и клизав), израђен од материјал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ст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р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стоји опасност од пожара под мора би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незапаљивог материјала, а ако постоји опасност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њ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калиј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г   материјала   са   нагибом   према сливници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радних просторија треба да буду доб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ни и звучни изолат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зи и степениш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земним зградама најближи излаз не сме 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удаљен од радног места више од 5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јектима на спрат растојање од радног места до излазног степеништа не сме бити веће од 3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 простор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 захтева радног места према важећим стандардима. Предност увек има природно осветљењ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застакљене површине и површине пода мора бити најмањ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8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 и проветравање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   створ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не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с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е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ве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ађење на дозвољени ни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и вештач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ски блок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храна комплетно припрема и дели, кухињски блок мора да задовољи све грађевинске и санитарнохигијенске захтеве који се односе на магацин сировина, кухињу и трпезар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ринцип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Espace réservé du contenu 2"/>
          <p:cNvSpPr/>
          <p:nvPr/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безбедности и здравља на раду заснован је н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ма превен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еда на раду, обољења или оштећења здравља запосленог, који се спроводе пре почетка рада на радном месту и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таквих услова на раду којима се, у највећој могућој мери, смањују повреде на раду, професионална обољења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тегорије на које се безбедност  односи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 и/или штетност на радном месту и у радној околин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нцијал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кто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дном месту и у радној околини који могу произвести повреду на раду или оштећење здравља запосленог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познавање 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тврђивање опасности и штет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знавање опасности и штетнос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опасности и ште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(евалуација) р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тирање постојећих стања и мера, као и могућих додатних мер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на процена ризика након примењених        додатних 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ет корака процене риз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 и 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штетности: бука, виб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их штетности врши се у радној средини и на радном месту, где се у процесу рада користе, појављују или производе хемијске ште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актични де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слови радне околин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прегледа и испитивања је да се установи да ли електрична расвета објекта у којем се обавља рад испуњава критеријуме безбедности за рад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, локално и допунско осветљ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боскопски ефек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6000">
    <p:push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1916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сваки звук, чији ниво измерен на радном месту или у радној просторији прелази дозвољену вредно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звук који смета, замара, узнемира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мета функције појединих органа (слух, органе за варење, психичке смет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Бука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-360" y="1500120"/>
            <a:ext cx="871524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е вибрац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има где вибрирају додирне површине оруђа за рад, на радним површинама, подовима и алатима на којима се појављују вибрације и са којима је радник у контакт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Вибрације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ње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љних услова радне средине омогућава рад у оптималним условима, што се повољно одражава на здравље радника као и на његове радне способ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ређеним радним местима постоји ризик од настанка професионал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mes New Roman"/>
              </a:rPr>
              <a:t>Кесонска бол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Кесонска болест настаје при наглом преласку из средине са повећаним у средину са нормалним барометарским притис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 услед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наглог израњања рониоца и подморница као и при брзој декомпресији радника који раде у кесонима по чему је обољење и добило име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›  </a:t>
            </a:r>
            <a:r>
              <a:rPr b="0" i="1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ЛОКАЛИЗАЦИЈИ ПРО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жни облик (најлакш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тео-мио-артикуларни облик (најчешћ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алитичк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рдиопулмонални облик (најтеж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›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НАСТАНКУ И ТОКУ БОЛ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акутни обл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ут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ронич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настаје при постепеном пењању на велике надморске висине (најчеше обољевају пилот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висинске болести настају као последица хипоксије услед смањења pО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у удахнутом ваздуху, због смањења атмосферског притиска на већим висин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клинички може да се манифестује ка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утна висинска боле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сински плућни ед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синска плућна хипертенз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ронична висинска болест пл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з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е од измењеног барометарског притис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 мере зашт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мере 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 здравствени прегл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вно административне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7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3-09-01T19:31:40Z</dcterms:modified>
  <cp:revision>98</cp:revision>
  <dc:subject/>
  <dc:title>Slide 1</dc:title>
</cp:coreProperties>
</file>